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63C-2EFE-4E13-9BA7-3729B338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DD4-6485-49A2-A669-E5CBCD89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341-042D-41C7-B379-439BD638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FDD-8633-4F0C-B97A-3BEC235B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FBD-2C00-45F2-B42F-0E00D560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450-02FE-41C0-B8B0-DB3641EE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BEE-3D52-4B58-82E0-AEFE3D1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FBD-12E2-4BD3-9E04-B4EB3B4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618-9447-4AC7-B65B-F8C71A19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A41-820C-4CB3-A626-4CABD3E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955-2E59-4D29-9E93-CA2EEE7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D3C-FE07-4BBD-8045-DE562079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6797-CDCB-436D-A7AE-0EB8F0707E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6920" y="1905120"/>
            <a:ext cx="449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ti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e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543800" cy="190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81680" y="563868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543800" cy="52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28800" y="5105520"/>
            <a:ext cx="5029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2819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54380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3733920"/>
            <a:ext cx="1523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1911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7696080" cy="196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10280" y="556272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3927600"/>
            <a:ext cx="7010280" cy="49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76520" y="4572000"/>
            <a:ext cx="5181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39152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9152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96252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91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3809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696080" cy="198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34320" y="571500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9644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964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5613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7080" y="3840120"/>
            <a:ext cx="34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Screening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400800" y="274284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14280" y="22701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28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696080" cy="83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3657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934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62940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5257800" cy="266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3276720"/>
            <a:ext cx="144756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7:37:44Z</dcterms:modified>
  <cp:revision>218</cp:revision>
  <dc:subject/>
  <dc:title>Slide 1</dc:title>
</cp:coreProperties>
</file>